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EB3-F5FB-4666-B81B-85A8BAEA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C7C-0B28-4473-B161-46D94117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D51-389A-4EA8-9F03-C952D262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B2B-2BDD-47D0-9F91-23180013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385-F6CD-4AC3-9491-E64B9743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EE0-9B84-4C7E-93DB-51DA5261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502-25E0-48BD-A678-E51E2316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ED5-6D71-42D3-8145-51DA8C0D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353-F535-4307-8932-589B2E00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DCC-EF51-418C-AB43-5B65D49B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86E-3A25-44FD-8D5B-8102F491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845-F74A-466D-89FF-23C77F3B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61F8-E68A-41ED-A363-06EC233CAC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Calibri"/>
              </a:rPr>
              <a:t>EDUCATION IN POLAND</a:t>
            </a:r>
            <a:br>
              <a:rPr sz="4000"/>
            </a:br>
            <a:r>
              <a:rPr b="1" lang="pl-PL" sz="4000" spc="-1" strike="noStrike">
                <a:solidFill>
                  <a:srgbClr val="00b050"/>
                </a:solidFill>
                <a:latin typeface="Calibri"/>
              </a:rPr>
              <a:t>2012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Janek\Desktop\flagap1.jpg"/>
          <p:cNvPicPr/>
          <p:nvPr/>
        </p:nvPicPr>
        <p:blipFill>
          <a:blip r:embed="rId1"/>
          <a:stretch/>
        </p:blipFill>
        <p:spPr>
          <a:xfrm>
            <a:off x="1042920" y="2924280"/>
            <a:ext cx="3657600" cy="2279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upload.wikimedia.org/wikipedia/commons/thumb/e/e4/Coat_of_arms_of_Poland-official3.png/220px-Coat_of_arms_of_Poland-official3.png"/>
          <p:cNvPicPr/>
          <p:nvPr/>
        </p:nvPicPr>
        <p:blipFill>
          <a:blip r:embed="rId2"/>
          <a:stretch/>
        </p:blipFill>
        <p:spPr>
          <a:xfrm>
            <a:off x="5435640" y="2781360"/>
            <a:ext cx="20955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f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In the sixth class students take their first exa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Symbol zastępczy zawartości 3" descr="Sprawdzian VI klas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Symbol zastępczy zawartości 3" descr="Po__egnanie absolwent__w03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Then, students go to the junior high schoo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It lasts for three year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Symbol zastępczy zawartości 3" descr="pilka_reczna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In this school students learn subjects such as Chemistry, Social studies, Biology and Geography. In the last year of this school students take their final exam. It consists of two parts: humanistic and scienc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ymbol zastępczy zawartości 3" descr="36_pozeglice1.jpg"/>
          <p:cNvPicPr/>
          <p:nvPr/>
        </p:nvPicPr>
        <p:blipFill>
          <a:blip r:embed="rId1"/>
          <a:stretch/>
        </p:blipFill>
        <p:spPr>
          <a:xfrm>
            <a:off x="2031840" y="2249640"/>
            <a:ext cx="508032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</a:rPr>
              <a:t>After that,  students who want to go to univeristy, go to a high secondary school or a technical school and learn there for three or four years.  Then, most of them take </a:t>
            </a:r>
            <a:r>
              <a:rPr b="1" lang="pl-PL" sz="3600" spc="-1" strike="noStrike" u="sng">
                <a:solidFill>
                  <a:srgbClr val="0070c0"/>
                </a:solidFill>
                <a:uFillTx/>
                <a:latin typeface="Calibri"/>
              </a:rPr>
              <a:t>Matura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</a:rPr>
              <a:t>-exam which is also an entrance exam to university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Symbol zastępczy zawartości 3" descr="matura_eo.jpg"/>
          <p:cNvPicPr/>
          <p:nvPr/>
        </p:nvPicPr>
        <p:blipFill>
          <a:blip r:embed="rId1"/>
          <a:stretch/>
        </p:blipFill>
        <p:spPr>
          <a:xfrm>
            <a:off x="1238400" y="1639800"/>
            <a:ext cx="6667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Universities require positive results of </a:t>
            </a:r>
            <a:r>
              <a:rPr b="1" lang="pl-PL" sz="4000" spc="-1" strike="noStrike" u="sng">
                <a:solidFill>
                  <a:srgbClr val="0070c0"/>
                </a:solidFill>
                <a:uFillTx/>
                <a:latin typeface="Calibri"/>
              </a:rPr>
              <a:t>Matura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-exam and good common of foreign languages. After three years of studies, students get a Bachelor’s Degre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The inspection of teaching standards in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Polish 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schools comes directly under the Ministry of Education and is represented by a regional administrative body </a:t>
            </a: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(kuratorium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Symbol zastępczy zawartości 3" descr="imagesCAZNXEDL.jpg"/>
          <p:cNvPicPr/>
          <p:nvPr/>
        </p:nvPicPr>
        <p:blipFill>
          <a:blip r:embed="rId1"/>
          <a:stretch/>
        </p:blipFill>
        <p:spPr>
          <a:xfrm>
            <a:off x="3338640" y="29383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The title of Master may  be obtained following the completion of two-year complementary </a:t>
            </a:r>
            <a:r>
              <a:rPr b="1" lang="pl-PL" sz="4000" spc="-1" strike="noStrike" u="sng">
                <a:solidFill>
                  <a:srgbClr val="0070c0"/>
                </a:solidFill>
                <a:uFillTx/>
                <a:latin typeface="Calibri"/>
              </a:rPr>
              <a:t>magister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-level courses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After five or six years students may receive a Master's Degree. Equivalent titles include the field of: education, arts, architecture, medicine, dentistry and mo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Symbol zastępczy zawartości 3" descr="4d4fd1f128553.jpg"/>
          <p:cNvPicPr/>
          <p:nvPr/>
        </p:nvPicPr>
        <p:blipFill>
          <a:blip r:embed="rId1"/>
          <a:stretch/>
        </p:blipFill>
        <p:spPr>
          <a:xfrm>
            <a:off x="1595520" y="1881360"/>
            <a:ext cx="5952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The title of Master may also be obtained following the completion of two-year complementary </a:t>
            </a:r>
            <a:r>
              <a:rPr b="1" lang="pl-PL" sz="4000" spc="-1" strike="noStrike" u="sng">
                <a:solidFill>
                  <a:srgbClr val="0070c0"/>
                </a:solidFill>
                <a:uFillTx/>
                <a:latin typeface="Calibri"/>
              </a:rPr>
              <a:t>magister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-level courses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In summary, though education in Poland is really complicated more and more young and old people want to study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Symbol zastępczy zawartości 3" descr="z11036950X.jpg"/>
          <p:cNvPicPr/>
          <p:nvPr/>
        </p:nvPicPr>
        <p:blipFill>
          <a:blip r:embed="rId1"/>
          <a:stretch/>
        </p:blipFill>
        <p:spPr>
          <a:xfrm>
            <a:off x="2448000" y="2281320"/>
            <a:ext cx="4248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THANKS FOR YOUR ATTENTION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uaniolkastroza.pl/zlobek/images/soneczniki1444.jpg"/>
          <p:cNvPicPr/>
          <p:nvPr/>
        </p:nvPicPr>
        <p:blipFill>
          <a:blip r:embed="rId1"/>
          <a:stretch/>
        </p:blipFill>
        <p:spPr>
          <a:xfrm>
            <a:off x="2700360" y="2276640"/>
            <a:ext cx="3524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ymbol zastępczy zawartości 3" descr="1f0272893590a3e53e4e888870aee398.jpg"/>
          <p:cNvPicPr/>
          <p:nvPr/>
        </p:nvPicPr>
        <p:blipFill>
          <a:blip r:embed="rId1"/>
          <a:stretch/>
        </p:blipFill>
        <p:spPr>
          <a:xfrm>
            <a:off x="2873520" y="1600200"/>
            <a:ext cx="3396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The compulsory school age is from seven to sixteen.</a:t>
            </a:r>
            <a:br>
              <a:rPr sz="4000"/>
            </a:b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When children are seven they go to the primary  school and learn there for six yea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Janek\Desktop\Zdjęcia z wczasów i inne\ZDJĘCIA MOICH UCZNIÓW 2009-2012\S5000085.JPG"/>
          <p:cNvPicPr/>
          <p:nvPr/>
        </p:nvPicPr>
        <p:blipFill>
          <a:blip r:embed="rId1"/>
          <a:stretch/>
        </p:blipFill>
        <p:spPr>
          <a:xfrm>
            <a:off x="1646280" y="16686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They learn  subjects such as: languages, Maths, Music, Art, Science,  History and Physical Educ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Janek\Desktop\Mama\Warta i Głuszyna +6a 2011\S5000270.JPG"/>
          <p:cNvPicPr/>
          <p:nvPr/>
        </p:nvPicPr>
        <p:blipFill>
          <a:blip r:embed="rId1"/>
          <a:stretch/>
        </p:blipFill>
        <p:spPr>
          <a:xfrm>
            <a:off x="1646280" y="16686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Younger pupils from 7 to 9 get a descriptive mark for their achievements from their tutor. Older students get marks from 1 to 6 from their all teachers. The 6 mark is the best grad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Janek\Desktop\FUNKA 2012-Zielona szkoła - kl.5c. Fotograf - Anna Czarnecka-Kimla\S500029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56:44Z</dcterms:created>
  <dc:creator>Janek</dc:creator>
  <dc:description/>
  <dc:language>en-US</dc:language>
  <cp:lastModifiedBy>Smokol</cp:lastModifiedBy>
  <dcterms:modified xsi:type="dcterms:W3CDTF">2013-09-23T22:35:01Z</dcterms:modified>
  <cp:revision>50</cp:revision>
  <dc:subject/>
  <dc:title>EDUCATION IN POLAND 2012</dc:title>
</cp:coreProperties>
</file>